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3FC-BBDA-4CE4-A6B3-CBB4E8FE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96-9B20-4041-A100-831119D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86E-1064-4F7D-915C-E4806A4D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9D1-6A6E-489A-BFFC-F99F2BF5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23B-6030-4016-9DEE-E86B4BD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5B3-4AFA-4233-8EB2-9604789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927-1441-4368-B046-D68083C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A8E-2692-4321-ADCF-EE5B0BC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C13-17C8-4C5E-9C9B-2C626E75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1B9-5453-4C7E-BD9D-99EA09D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784-0933-4C64-9623-69DD3A6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FA9-7AE5-46E7-A25F-94885A5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58A-945F-4A2D-A804-9BDE210BA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Object 6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Object 7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4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Object 6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Object 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6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Object 4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Object 11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Object 6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Object 3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Object 7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3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9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3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Object 6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7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11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9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10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Object 3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4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we know what an opinion is, and what a claim is, let’s go learn about the types of evidence that can support a cla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Object 5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6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bject 4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Object 5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6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Tengstrand</cp:lastModifiedBy>
  <dcterms:modified xsi:type="dcterms:W3CDTF">2011-04-05T17:49:12Z</dcterms:modified>
  <cp:revision>10</cp:revision>
  <dc:subject/>
  <dc:title>No Slide Title</dc:title>
</cp:coreProperties>
</file>